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5B4-D44A-465F-B50A-56ED2289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5A0-A0CD-419F-938E-40989F7F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urina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8FC-1BA5-4777-8968-45AA4197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783-862D-4B7B-8AEC-A407114E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C77-163D-4F77-B2B4-F9410A1F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8A7-2982-47E5-9EE3-3DDA30FF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sciencephoto.com/image/395171/530wm/C0097511-Nephron_structure%2C_artwork-SP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6C0-EF51-4331-A0F7-D560AF98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0824-15C1-4E72-B3EE-CFFD582C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C3E-0914-46CE-B193-70149968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Kidney_structure_neutra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6A43-E454-433A-896C-C3ED86BE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7BA8-7EF9-4419-AC02-77216888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 :http://kcfac.kilgore.cc.tx.us/mobleypageap1/quizzes_and_downloads.h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423-1000-44E1-8158-91136235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Image from: http://www.medical-illustrations.ca/1010-kidney-nephron-diagram/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ferent Arrives…Efferent Exi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0890-A15C-47FA-97A8-5AA23B10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AD6-658F-4C5F-86C4-EE431D3F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 ,-Steril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C22B-E81A-410B-BFF3-4162C070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940-D079-4FE9-9904-AA8E3909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humanphysiology2011.wikispaces.com/12.+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CFD0-B176-49FF-8778-5BF1517C3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471/flashcards/4757471/jpeg/bf9216ee-b2fb-4054-844f-4c88b0e49ad9-147E96763CA798BDAAA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803-9AC7-41EE-B65A-698CB484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droualb.faculty.mjc.edu/Course%20Materials/Elementary%20Anatomy%20and%20Physiology%2050/Lecture%20outlines/15_05Figure-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F4B9-CAE1-404E-8D48-6ED2D129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1947-ED69-4BB2-AC6A-CBFA2FB3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C6D-8985-4D02-8D65-C069B5BC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B5DD-2F7A-4C6A-8E93-6B526857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greatneck.k12.ny.us/GNPS/SHS/dept/science/krauz/bio_h/images/07_14ContractileVacuole_L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C88-AC52-4A81-A797-A4C65D71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D07-9DDA-4DC6-903D-4573F793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987-CB2A-4AC6-84BE-2D827BA2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48C-5A28-41E1-B57E-672A65F5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E6B-5A2A-4E89-87BB-2801DDEF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33D-C5FF-4311-87B6-17F97959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D5A9-163F-4DB2-ADD9-881F4C7EE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BE7-C68C-427C-824B-77D71C41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3F1-A1CA-4145-9E0C-A6849CB6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754/flashcards/566754/png/42.12132059291329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84D-109B-4726-BF25-21642578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pleasanton.k12.ca.us/avhsweb/thiel/apbio/review/images/malpi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shitmy6yearoldsays.files.wordpress.com/2012/10/bird-poop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B63-476F-4BC7-957C-53FA08EB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E32-715A-48E5-9C6E-8DA660A9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beijo.com/39245025_human-excreto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0132-6646-41AC-B193-DCDFC0F9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799-F7AF-46A8-B91E-843F259B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794-0616-4BA1-8089-A86C98E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BD8-2CB6-45FE-A24B-66F9135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67D-F3BD-4C68-BAFD-5319915E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386-8642-4DBF-8C23-1270C55D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5A5-8ED9-44DB-B777-D2F1E1E3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927-2516-4580-A720-34D02E4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AC0-5809-44C0-9F29-BF68D52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518-9C20-4B0D-A35B-3F21066B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BED-788E-46A1-B857-FBF0DE9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9AF-266F-4C9A-92DC-338359BD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F01-5BE4-43F1-9A52-D9CD92F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2ED-74AD-48B4-95E4-CC58C6E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DB9-AB3B-401F-8475-8411F1A3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kidney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TXRcbjuYGU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25836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SCF1603-746713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DSCF1607-706730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 million nephrons in each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C0097511-Nephron_structure%2C_artwork-SPL.jpg"/>
          <p:cNvPicPr/>
          <p:nvPr/>
        </p:nvPicPr>
        <p:blipFill>
          <a:blip r:embed="rId1"/>
          <a:srcRect l="-31772" t="0" r="-31772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Nephron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Struct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idney_structure_neutral"/>
          <p:cNvPicPr/>
          <p:nvPr/>
        </p:nvPicPr>
        <p:blipFill>
          <a:blip r:embed="rId1"/>
          <a:stretch/>
        </p:blipFill>
        <p:spPr>
          <a:xfrm>
            <a:off x="685800" y="934920"/>
            <a:ext cx="77724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300px-Urinary_system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nephron1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1010_kidney_nephron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es wastes &amp; removes them from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luids &amp; water with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urine-specimen-cup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blood pressure in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ions, smaller dissolved molecules (glucose, amino acids, urea)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kidneys filter your entire blood plas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 pu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transport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pretty much all amino acids, glucose &amp;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water is by osmosis (passive) and aid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quapo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villi increase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, gluose, amino acids reabsorbed by  passive &amp; ac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eabsorbed by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salt_and_water_reabsorption.jpg"/>
          <p:cNvPicPr/>
          <p:nvPr/>
        </p:nvPicPr>
        <p:blipFill>
          <a:blip r:embed="rId1"/>
          <a:srcRect l="0" t="-15249" r="0" b="-15249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reabsorbed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re reabsorb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c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tion (“make medulla salty” as Sal Khan s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6" descr="bf9216ee-b2fb-4054-844f-4c88b0e49ad9-147E96763CA798BDAAA.jpeg"/>
          <p:cNvPicPr/>
          <p:nvPr/>
        </p:nvPicPr>
        <p:blipFill>
          <a:blip r:embed="rId1"/>
          <a:srcRect l="0" t="-8504" r="0" b="-8504"/>
          <a:stretch/>
        </p:blipFill>
        <p:spPr>
          <a:xfrm>
            <a:off x="4356000" y="1628640"/>
            <a:ext cx="4392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8" descr="15_05Figure-L.jpg"/>
          <p:cNvPicPr/>
          <p:nvPr/>
        </p:nvPicPr>
        <p:blipFill>
          <a:blip r:embed="rId1"/>
          <a:srcRect l="-9117" t="0" r="-9117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l Tubule &amp; Collecting 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ions &amp;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water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urea reabsorbed (passive) to allow more reabsorp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H maintained through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nd reabsorption of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xified poisons, water-soluble drugs,  nitrogen-containing wastes are all sec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ice detailed animation that goes through the structure of the kidney &amp; the formation of ur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kidne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07_14ContractileVacuole_LP.jpg"/>
          <p:cNvPicPr/>
          <p:nvPr/>
        </p:nvPicPr>
        <p:blipFill>
          <a:blip r:embed="rId2"/>
          <a:srcRect l="3701" t="0" r="370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Urinalysis_2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Kidney Stones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surgical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kidney_stone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_A5_72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dialysis_catheter_jpg"/>
          <p:cNvPicPr/>
          <p:nvPr/>
        </p:nvPicPr>
        <p:blipFill>
          <a:blip r:embed="rId1"/>
          <a:stretch/>
        </p:blipFill>
        <p:spPr>
          <a:xfrm>
            <a:off x="3013200" y="609480"/>
            <a:ext cx="311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 in Earth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ymph is taken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nephri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nd waste are reabsorbed &amp; secreted into bla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water &amp; wastes exit through p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6" descr="42.121320592913292.png"/>
          <p:cNvPicPr/>
          <p:nvPr/>
        </p:nvPicPr>
        <p:blipFill>
          <a:blip r:embed="rId1"/>
          <a:srcRect l="0" t="-11958" r="0" b="-11958"/>
          <a:stretch/>
        </p:blipFill>
        <p:spPr>
          <a:xfrm>
            <a:off x="4284720" y="1628640"/>
            <a:ext cx="4390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 in Grasshop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1989000"/>
            <a:ext cx="4030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&amp; other insects secrete ions &amp; uric acid from hemolymph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stines reabsorb most ions &amp; uric acid is ex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6" descr="malpig.jpg"/>
          <p:cNvPicPr/>
          <p:nvPr/>
        </p:nvPicPr>
        <p:blipFill>
          <a:blip r:embed="rId1"/>
          <a:srcRect l="0" t="-12868" r="0" b="-12868"/>
          <a:stretch/>
        </p:blipFill>
        <p:spPr>
          <a:xfrm>
            <a:off x="4284720" y="1628640"/>
            <a:ext cx="446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estrial Reptiles &amp; 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c acid is excreted through the cloaca (end of digestive tract), along with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that drink salt water excrete excess salt through salt glands in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bird-poop.png"/>
          <p:cNvPicPr/>
          <p:nvPr/>
        </p:nvPicPr>
        <p:blipFill>
          <a:blip r:embed="rId1"/>
          <a:srcRect l="14691" t="0" r="1469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n5551267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remove wastes, balance blood pH, and maintain water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ilter the blood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ad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7-04-26T12:13:02Z</dcterms:modified>
  <cp:revision>308</cp:revision>
  <dc:subject/>
  <dc:title>Maintaining An Internal Balance</dc:title>
</cp:coreProperties>
</file>